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5DFE-A80A-490D-A617-9CA856798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E349-7C06-444D-8698-45A0454D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A291-832C-46D1-AE4E-679E416A6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E1EC-B26A-43CA-98D8-D271C63F8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9F23-2840-4B43-B01B-A4F156E3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7F20-5246-4A27-BCFC-419BE4A3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4012-BAE3-4A91-BA90-474140F0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71D1-A3B3-4E22-A71F-FFD39903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71BC-9B6D-4F8C-BE9A-DA3E04BE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790A-E27D-40A4-885E-9882F94A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5191-A515-4714-8E6A-5F9A8332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621A-6CA4-42BF-A945-18C3E1C7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46DD-2CB2-40AA-9896-83F97CFA3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ckbar"/>
              </a:rPr>
              <a:t>Writing Portfolio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ckbar"/>
              </a:rPr>
              <a:t>Reading Portfolio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ckbar"/>
              </a:rPr>
              <a:t>Writing Workshop</a:t>
            </a:r>
            <a:br>
              <a:rPr sz="8000"/>
            </a:b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Ackbar"/>
              </a:rPr>
              <a:t> Unit of Study plan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9T00:06:46Z</dcterms:created>
  <dc:creator>Abby Owens</dc:creator>
  <dc:description/>
  <dc:language>en-US</dc:language>
  <cp:lastModifiedBy>Abby Owens</cp:lastModifiedBy>
  <dcterms:modified xsi:type="dcterms:W3CDTF">2010-05-29T01:10:14Z</dcterms:modified>
  <cp:revision>2</cp:revision>
  <dc:subject/>
  <dc:title>Writing Portfolios</dc:title>
</cp:coreProperties>
</file>